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7D9-2378-4001-8278-3BB2800F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252-D620-4579-86FC-D5BC439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AB5-E383-48B7-BFCF-D2D2DB38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C68-74AE-4408-819B-621ADB51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0A2-388A-4207-8DA2-C735318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7C5-F603-4E7A-A486-3DD9B76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609-2B50-4466-A1C7-D5193009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3B8-FB46-469B-879E-71ACD40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41E-AC25-4A7E-A965-A423993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3B1-700A-49C0-B74C-4920BB0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DD1-24BC-43C8-BE62-8AF881F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091-AA4C-406F-B142-AFA7C98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135C5-3C14-4B2F-9919-481360676D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i109.photobucket.com/albums/n51/JaromeIginla12/other/russian_flag_12226.gif&amp;imgrefurl=http://media.photobucket.com/image/russian%2520flag/JaromeIginla12/other/russian_flag_12226.gif%3Fo%3D218&amp;h=283&amp;w=427&amp;sz=3&amp;tbnid=bvU-hVj48RD4mM:&amp;tbnh=84&amp;tbnw=126&amp;prev=/images%3Fq%3Drussian%2Bflag&amp;zoom=1&amp;q=russian+flag&amp;hl=en&amp;usg=__YeAS9j5f8HG_F6s9gHCH0SNVMOc=&amp;sa=X&amp;ei=11IRTdSbN4Ss8AbP4eTPDQ&amp;sqi=2&amp;ved=0CDoQ9QEwBA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1165860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4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Jake Latini, Luke Marcheski and Isabelle Pillone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soon became the Union of Soviet Scolastic Republic 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918-1922: 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4: Lenin d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39: September: WW II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-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469440" cy="7304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45-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-May: Berlin surrenders to the U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ust: The USA bombed Hiroshima and Nagaski which ended W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3-Stalin dies and is taken over by Nikita Khrushch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-The Soviet Union launches “Sputni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ce Race”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531720" y="0"/>
            <a:ext cx="12647520" cy="7086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962-1980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2-The Cuban Missile Cri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4-Khrushchev was replaced by Leonid Brezhne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65-The Soviet Union backs North Vietnam against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75- “The Space Race” is won by the USA by being the only nation to put a man on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80-The USSR loses to the US in the hockey Olympics 4 to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-54000" y="-7920"/>
            <a:ext cx="9198000" cy="7323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USSR launches the MIR spa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-USSR withdraws from Afghanistan     the Berlin wall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http://t2.gstatic.com/images?q=tbn:bvU-hVj48RD4mM:http://i109.photobucket.com/albums/n51/JaromeIginla12/other/russian_flag_12226.gif&amp;t=1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-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-Boris Yelstin is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-Russia becomes an independent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Yelstin r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>
            <a:hlinkClick r:id="rId2"/>
          </p:cNvPr>
          <p:cNvSpPr/>
          <p:nvPr/>
        </p:nvSpPr>
        <p:spPr>
          <a:xfrm>
            <a:off x="155520" y="-351000"/>
            <a:ext cx="1114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155520" y="-351000"/>
            <a:ext cx="1114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-39600"/>
            <a:ext cx="11646000" cy="689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Problems With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Russia has gone trough a lot of wars. Wars cost a lot of money. Loss of money causes economic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Spent millions of dollars on “The Space Race” and Sput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Have had a lot of competition and c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platform51.org/images/ecards/thanks/thanksmultiling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French Scrip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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Wingdings"/>
                <a:ea typeface="Wingdings"/>
              </a:rPr>
              <a:t>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Pillone Family</dc:creator>
  <dc:description/>
  <dc:language>en-US</dc:language>
  <cp:lastModifiedBy>Jean Philipe</cp:lastModifiedBy>
  <dcterms:modified xsi:type="dcterms:W3CDTF">2010-12-22T01:30:35Z</dcterms:modified>
  <cp:revision>6</cp:revision>
  <dc:subject/>
  <dc:title>Russian History 1918-2000</dc:title>
</cp:coreProperties>
</file>